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BB0E-8C27-4215-AFBF-49F43C92A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D6E-23DE-473C-A77B-A5511A4C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2F5C-F860-45DD-96C8-453E8CF95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F30-F210-4C61-8E00-061B6A93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1842-15F9-4CE5-A43A-06837545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277-56EB-413D-9FA7-5B3F29E57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C345-D62D-4480-9331-4B0D7D76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231B-CB83-4284-B39D-55283CD5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4C4-97F9-46C6-87CC-E339B464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Line 62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4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5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66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7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8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69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70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73"/>
          <p:cNvSpPr/>
          <p:nvPr/>
        </p:nvSpPr>
        <p:spPr>
          <a:xfrm>
            <a:off x="415296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74"/>
          <p:cNvSpPr/>
          <p:nvPr/>
        </p:nvSpPr>
        <p:spPr>
          <a:xfrm>
            <a:off x="428004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82"/>
          <p:cNvSpPr/>
          <p:nvPr/>
        </p:nvSpPr>
        <p:spPr>
          <a:xfrm>
            <a:off x="4732200" y="629136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84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" name="Object 85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" name="Object 8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" name="Rectangle 86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8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5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36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Object 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Rectangle 37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9.xml"/><Relationship Id="rId5" Type="http://schemas.openxmlformats.org/officeDocument/2006/relationships/image" Target="../media/image1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image" Target="../media/image1.jpeg"/><Relationship Id="rId12" Type="http://schemas.openxmlformats.org/officeDocument/2006/relationships/slide" Target="slide19.xml"/><Relationship Id="rId13" Type="http://schemas.openxmlformats.org/officeDocument/2006/relationships/slide" Target="slide23.xml"/><Relationship Id="rId14" Type="http://schemas.openxmlformats.org/officeDocument/2006/relationships/image" Target="../media/image1.jpeg"/><Relationship Id="rId15" Type="http://schemas.openxmlformats.org/officeDocument/2006/relationships/slide" Target="slide19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19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3.xm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13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image" Target="../media/image1.jpeg"/><Relationship Id="rId12" Type="http://schemas.openxmlformats.org/officeDocument/2006/relationships/slide" Target="slide3.xml"/><Relationship Id="rId13" Type="http://schemas.openxmlformats.org/officeDocument/2006/relationships/slide" Target="slide23.xml"/><Relationship Id="rId14" Type="http://schemas.openxmlformats.org/officeDocument/2006/relationships/image" Target="../media/image1.jpeg"/><Relationship Id="rId15" Type="http://schemas.openxmlformats.org/officeDocument/2006/relationships/slide" Target="slide19.xml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11.xml"/><Relationship Id="rId16" Type="http://schemas.openxmlformats.org/officeDocument/2006/relationships/image" Target="../media/image1.jpeg"/><Relationship Id="rId17" Type="http://schemas.openxmlformats.org/officeDocument/2006/relationships/slide" Target="slide11.xml"/><Relationship Id="rId18" Type="http://schemas.openxmlformats.org/officeDocument/2006/relationships/slide" Target="slide11.xml"/><Relationship Id="rId19" Type="http://schemas.openxmlformats.org/officeDocument/2006/relationships/image" Target="../media/image1.jpeg"/><Relationship Id="rId20" Type="http://schemas.openxmlformats.org/officeDocument/2006/relationships/slide" Target="slide14.xml"/><Relationship Id="rId21" Type="http://schemas.openxmlformats.org/officeDocument/2006/relationships/slide" Target="slide14.xml"/><Relationship Id="rId22" Type="http://schemas.openxmlformats.org/officeDocument/2006/relationships/image" Target="../media/image1.jpeg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image" Target="../media/image1.jpeg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11.xml"/><Relationship Id="rId20" Type="http://schemas.openxmlformats.org/officeDocument/2006/relationships/image" Target="../media/image1.jpeg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image" Target="../media/image1.jpeg"/><Relationship Id="rId24" Type="http://schemas.openxmlformats.org/officeDocument/2006/relationships/slide" Target="slide14.xml"/><Relationship Id="rId25" Type="http://schemas.openxmlformats.org/officeDocument/2006/relationships/slide" Target="slide14.xml"/><Relationship Id="rId26" Type="http://schemas.openxmlformats.org/officeDocument/2006/relationships/image" Target="../media/image1.jpeg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image" Target="../media/image1.jpeg"/><Relationship Id="rId30" Type="http://schemas.openxmlformats.org/officeDocument/2006/relationships/slide" Target="slide3.xml"/><Relationship Id="rId31" Type="http://schemas.openxmlformats.org/officeDocument/2006/relationships/slide" Target="slide3.xml"/><Relationship Id="rId32" Type="http://schemas.openxmlformats.org/officeDocument/2006/relationships/image" Target="../media/image1.jpeg"/><Relationship Id="rId33" Type="http://schemas.openxmlformats.org/officeDocument/2006/relationships/slide" Target="slide23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9.xml"/><Relationship Id="rId5" Type="http://schemas.openxmlformats.org/officeDocument/2006/relationships/image" Target="../media/image1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image" Target="../media/image1.jpe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14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image" Target="../media/image1.jpe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14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.jpeg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image" Target="../media/image1.jpe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14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package" Target="../embeddings/oleObject1.docx"/><Relationship Id="rId16" Type="http://schemas.openxmlformats.org/officeDocument/2006/relationships/image" Target="../media/image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.jpeg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19.xml"/><Relationship Id="rId7" Type="http://schemas.openxmlformats.org/officeDocument/2006/relationships/image" Target="../media/image1.jpeg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image" Target="../media/image1.jpeg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.jpeg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19.xml"/><Relationship Id="rId7" Type="http://schemas.openxmlformats.org/officeDocument/2006/relationships/image" Target="../media/image1.jpeg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image" Target="../media/image1.jpeg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13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14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residency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s commander in chief, th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is the leader of all the nation’s armed fo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nitiates legis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is the director of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represents the citizens of the United States abro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In order to become President, a citizen needs to be at l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25 years 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35 years 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45 years 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30 years ol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7">
            <a:hlinkClick r:id="rId10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>
            <a:hlinkClick r:id="rId12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">
            <a:hlinkClick r:id="rId13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>
            <a:hlinkClick r:id="rId15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residential Succession and the Vice Presidency</a:t>
            </a:r>
            <a:endParaRPr b="1" lang="en-US" sz="3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920" y="1008000"/>
            <a:ext cx="8610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Constitution provide for presidential succ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titutional provisions for presidential dis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ole of the Vice Pres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1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2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3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4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5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6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7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8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5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7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1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he Constitution and Success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Presidential succession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 the plan by which a presidential vacancy is fil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25th Amendment, ratified in 1967, made it clear that the Vice President will become President if the President is removed from off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Presidential Succession Act of 1947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t the order of succession following the Vice Presi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8" descr="_x0014_MAG01se1302a5087.jpg                                           00000179_x000b_PenyackJ HD                    B33A4082:"/>
          <p:cNvPicPr/>
          <p:nvPr/>
        </p:nvPicPr>
        <p:blipFill>
          <a:blip r:embed="rId15"/>
          <a:stretch/>
        </p:blipFill>
        <p:spPr>
          <a:xfrm>
            <a:off x="5211720" y="952560"/>
            <a:ext cx="3479760" cy="509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f the President is sick?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isenhower: suffered heart attack in 1955, ileitis in 1956, and mild stroke in 19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es Garfield: lingered for 80 days before he died of an assassi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bullet in 188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odrow Wilson who suffered a stoke in 1919 and was invalid for his second te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nal Reagan who was gravely wounded in an assassination attempt in 198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588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ial Disabilit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2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3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4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5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6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7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8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9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6240" y="9903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0000" indent="-1800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3 and 4 of the 25th Amendment provide procedures to follow when the President is dis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ce President is to become acting President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the President informs Congress, in writing, “that he is unable to discharge the powers and duties of his office,”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the Vice President and a majority of the members of the Cabinet inform Congress, in writing, that the President is thus incapacit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can resume powers and duties of office by informing Congress that no inability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12240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and majority of Congress can challenge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3840" indent="-11340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ress has 21 days to decide on the 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Vice Presidenc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0000" y="95688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-298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itution only gives the Vice President two duties besides becoming President if the President is removed from off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to preside over the Senat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o help decide the question of presidential dis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ffice of Vice President becomes vacant, the President nominates a new Vice President subject to the approval of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ice President often performs diplomatic and political chores for the Pres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9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ffff"/>
                </a:solidFill>
                <a:latin typeface="Arial"/>
              </a:rPr>
              <a:t>Into the Oval Offi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3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1" descr="_x0014_MAG01se1302a5088.jpg                                           00000179_x000b_PenyackJ HD                    B33A4082:"/>
          <p:cNvPicPr/>
          <p:nvPr/>
        </p:nvPicPr>
        <p:blipFill>
          <a:blip r:embed="rId15"/>
          <a:stretch/>
        </p:blipFill>
        <p:spPr>
          <a:xfrm>
            <a:off x="353880" y="914400"/>
            <a:ext cx="8391600" cy="5178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57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Who is in line for presidential succession following the Vice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First L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Speaker of the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president of the Se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Secretary of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7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Which constitutional amendment provides for presidential succ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25th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26th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22nd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21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6">
            <a:hlinkClick r:id="rId7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>
            <a:hlinkClick r:id="rId9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8">
            <a:hlinkClick r:id="rId10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>
            <a:hlinkClick r:id="rId12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0">
            <a:hlinkClick r:id="rId13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>
            <a:hlinkClick r:id="rId15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 H A P T E R  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sidency in Ac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58920" y="1695600"/>
            <a:ext cx="6276960" cy="34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9000"/>
          </a:bodyPr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The Growth of President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The President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’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s Executive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Diplomatic and Military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SECTION 4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Legislative and Judic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9">
            <a:hlinkClick r:id="rId15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0">
            <a:hlinkClick r:id="rId17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1">
            <a:hlinkClick r:id="rId18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>
            <a:hlinkClick r:id="rId20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3">
            <a:hlinkClick r:id="rId21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>
            <a:hlinkClick r:id="rId23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5">
            <a:hlinkClick r:id="rId24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>
            <a:hlinkClick r:id="rId26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Growth of Presidential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6760" y="1061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Article II of the Constitution controvers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presidential power grown over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ve Presidents’ own views affected the power of the o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0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1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2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3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4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5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13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residenc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36720" y="1300320"/>
            <a:ext cx="79214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The President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’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 Job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Presidential Succession and the Vice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Presidential Selection: The Framers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’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SECTION 4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5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6" action="ppaction://hlinksldjump"/>
              </a:rPr>
              <a:t>Presidential 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7" action="ppaction://hlinksldjump"/>
              </a:rPr>
              <a:t>SECTION 5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8" action="ppaction://hlinksldjump"/>
              </a:rPr>
              <a:t>	The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9">
            <a:hlinkClick r:id="rId19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>
            <a:hlinkClick r:id="rId21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>
            <a:hlinkClick r:id="rId22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>
            <a:hlinkClick r:id="rId24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3">
            <a:hlinkClick r:id="rId25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>
            <a:hlinkClick r:id="rId27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5">
            <a:hlinkClick r:id="rId28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6">
            <a:hlinkClick r:id="rId30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9">
            <a:hlinkClick r:id="rId31" action="ppaction://hlinksldjump"/>
          </p:cNvPr>
          <p:cNvSpPr/>
          <p:nvPr/>
        </p:nvSpPr>
        <p:spPr>
          <a:xfrm>
            <a:off x="47498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0">
            <a:hlinkClick r:id="rId33" action="ppaction://hlinksldjump"/>
          </p:cNvPr>
          <p:cNvSpPr/>
          <p:nvPr/>
        </p:nvSpPr>
        <p:spPr>
          <a:xfrm>
            <a:off x="48513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5"/>
          <p:cNvSpPr/>
          <p:nvPr/>
        </p:nvSpPr>
        <p:spPr>
          <a:xfrm>
            <a:off x="266760" y="274320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ticle I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6480" y="844560"/>
            <a:ext cx="841356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3840" indent="-279360">
              <a:spcBef>
                <a:spcPts val="18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ticle II, the Constitution’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ecutive Articl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begins this w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2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3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208080" y="3995640"/>
            <a:ext cx="84135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3840" indent="-27936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With these few words, the Framers established the presidenc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352440" y="2119320"/>
            <a:ext cx="84135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3840" indent="-27936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“</a:t>
            </a:r>
            <a:r>
              <a:rPr b="0" i="1" lang="en-US" sz="3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The executive power shall be vested in a President of the United States of America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sely Defined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990360"/>
            <a:ext cx="861048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6240" indent="-33624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stitution says the president can command the armed forces, make treaties, approve or veto the acts of Congress, call special session of Congress, receive and send diplomatic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120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t reads like a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120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ost loosely drawn chapter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120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oesn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 define the 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executive power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o, presidential power has grown over the last 20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Why Presidential Power Has Grow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2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4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5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6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7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ctr">
              <a:spcBef>
                <a:spcPts val="33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Over the course of American history, the champions of a stronger presidency have almost always prevailed and the presidency has picked up more and more pow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-1109520" y="-12600"/>
            <a:ext cx="118933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The Executive Article of the Constitu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rticle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Article 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Article I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rticle 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two views of presidential power are mostly center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extent of powers the President may act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President’s relationship to the electo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onstitutional amendments curtailing presidential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5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7">
            <a:hlinkClick r:id="rId10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>
            <a:hlinkClick r:id="rId12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resident’s Executive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67840" y="9014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es the President get the power to execute federal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rdinance power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ere does it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e appointing pow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the debate over the removal power e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1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2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3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4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5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6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59920" y="18014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What are the executive powers and how are they establish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*Fill out your tree map as we go through the Powerpoint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5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7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9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#1 Executing the La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s chief executive, the President executes (enforces, administers, carries out) the provisions of federal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oath of offic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instructs the President to carry out the laws of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 other provision is the Constitution’s command that “he shall take care that the laws be faithfully execu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#2 The Ordinance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2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3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4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5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6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7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The President has the power to issue executive orders. 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ecutive orde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is a directive, rule, or regulation that has the effect of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The power to issue these orders,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rdinance powe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arises from two sources: the Constitution and acts of Cong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6"/>
          <p:cNvSpPr/>
          <p:nvPr/>
        </p:nvSpPr>
        <p:spPr>
          <a:xfrm>
            <a:off x="309600" y="3754440"/>
            <a:ext cx="830412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Although not specifically mentioned in the Constitution, the ordinance power is clearly intended.</a:t>
            </a: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#3 The Appointment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48760" y="1091880"/>
            <a:ext cx="861084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ith Senate consent, the President names most of the top-ranking officers of the Federal Government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1) ambassadors and other diplom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2) Cabinet members and their top a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3) the heads of such independent agencies as the EPA and NA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4) all federal judges, attorneys, and U.S. marsh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5) all officers in the armed fo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resident’s Job Descrip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6760" y="109512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esident’s many ro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rmal qualifications necessary to become Pres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sues have arisen involving the length of the President’s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President compens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0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2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5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>
            <a:hlinkClick r:id="rId12" action="ppaction://hlinksldjump"/>
          </p:cNvPr>
          <p:cNvSpPr/>
          <p:nvPr/>
        </p:nvSpPr>
        <p:spPr>
          <a:xfrm>
            <a:off x="47498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7">
            <a:hlinkClick r:id="rId14" action="ppaction://hlinksldjump"/>
          </p:cNvPr>
          <p:cNvSpPr/>
          <p:nvPr/>
        </p:nvSpPr>
        <p:spPr>
          <a:xfrm>
            <a:off x="48513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#4 The Removal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8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bate ensued in the First Congress as to whether the President could remove appointees without the consent of the Se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view that the President may remove the officials he appoints without Senate consent has prevailed over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general, the President may remove those whom the President appoints except federal jud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0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5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The President is commanded to execute the provisions of federal law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cts of Con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oath of office and another constitutional pro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Supreme Cou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electoral colle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Which of the following government officials is not appointed by the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Supreme Court jus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Cabinet members and their top a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Speaker of the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mbassadors and other diplo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4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5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6">
            <a:hlinkClick r:id="rId7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>
            <a:hlinkClick r:id="rId9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8">
            <a:hlinkClick r:id="rId10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>
            <a:hlinkClick r:id="rId12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1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7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1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plomatic and Military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4160" y="990360"/>
            <a:ext cx="8634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are treaties made and appr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and how are executive agreements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purpose does the power of recognition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powers does the President have in the role of commander in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1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2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3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Content Placeholder 3" descr=""/>
          <p:cNvPicPr/>
          <p:nvPr/>
        </p:nvPicPr>
        <p:blipFill>
          <a:blip r:embed="rId1"/>
          <a:stretch/>
        </p:blipFill>
        <p:spPr>
          <a:xfrm>
            <a:off x="-1596960" y="208080"/>
            <a:ext cx="12453840" cy="613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#1 Commander in Chief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61440" y="178560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99ff"/>
                </a:solidFill>
                <a:latin typeface="Arial"/>
              </a:rPr>
              <a:t>Making Undeclared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Many Presidents have used the armed forces abroad without a declaration of war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artime P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The President’s powers as commander in chief are far greater during a war than they are in normal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cc00"/>
                </a:solidFill>
                <a:latin typeface="Arial"/>
              </a:rPr>
              <a:t>The War Powers Re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The War Powers Resolution of 1973 limits the President’s war-making pow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9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2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165240" y="871560"/>
            <a:ext cx="86104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"/>
              </a:rPr>
              <a:t>The Constitution makes the President the commander in chief of the nation’s armed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8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3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8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3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8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3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#2 The Power to Make Treati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6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8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16000" y="96012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6160" indent="-326160"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eaty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is a formal agreement between two or more sovereign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e President, usually through the secretary of state, negotiates these internation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ll treaties must pass approval by a two thirds of the members present vote in the Se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#3 Executive Agreemen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3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7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xecutive agreement </a:t>
            </a: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is a pact between the President and the head of a foreign state, or a subordin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307800" y="2989440"/>
            <a:ext cx="8610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Unlike  treaties, executive agreements do not require Senate consent and do not become a permanent part of American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Ex: we gave Britain 50 destroyer naval vessels to combat the Germans in WWII and we received a 99-year lease to a string of air and naval bases fro Newfoundland to the Caribb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#4 The Power of Recogni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5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6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7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8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9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7"/>
          <p:cNvSpPr/>
          <p:nvPr/>
        </p:nvSpPr>
        <p:spPr>
          <a:xfrm>
            <a:off x="304920" y="990720"/>
            <a:ext cx="86104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power of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recognitio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is exercised when the President, acting for the United States, acknowledges the legal existence of another sovereig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8"/>
          <p:cNvSpPr/>
          <p:nvPr/>
        </p:nvSpPr>
        <p:spPr>
          <a:xfrm>
            <a:off x="282600" y="3214800"/>
            <a:ext cx="8610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President may show American displeasure with the conduct of another country by asking for the recall of that nation’s ambassador or other diplomatic representatives in this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official is declared to be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persona non grata,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r an unwelcome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2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 treaty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power to build a navy and other armed fo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ormal agreement between two or more sovereign sta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recognition of a foreign government by the 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 condemnation of a foreign government by the American peo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When acting as head of the nation’s armed forces, the President is filling the ro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ommander in chie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chief legisl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head ele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presiden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 tempo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4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5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>
            <a:hlinkClick r:id="rId7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>
            <a:hlinkClick r:id="rId9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8">
            <a:hlinkClick r:id="rId10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9">
            <a:hlinkClick r:id="rId12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 E C T I O N  4</a:t>
            </a:r>
            <a:br>
              <a:rPr sz="1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islative and Judicial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67840" y="13125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0000"/>
              </a:lnSpc>
              <a:spcBef>
                <a:spcPts val="2251"/>
              </a:spcBef>
              <a:buClr>
                <a:srgbClr val="ff9933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are the President’s legislative powers an important part of the system of checks and balan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251"/>
              </a:spcBef>
              <a:buClr>
                <a:srgbClr val="ff9933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are the President’s major judicial pow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4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6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0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7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hats of the president…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Dipl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Legi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Presidential Hat"/>
          <p:cNvPicPr/>
          <p:nvPr/>
        </p:nvPicPr>
        <p:blipFill>
          <a:blip r:embed="rId1"/>
          <a:stretch/>
        </p:blipFill>
        <p:spPr>
          <a:xfrm flipH="1" rot="1470000">
            <a:off x="4949640" y="1899720"/>
            <a:ext cx="2841480" cy="3243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islative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2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74320" y="872640"/>
            <a:ext cx="42289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#1 Recommending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 Constitution provides that the President shall report to Congress on the state of the Union and recommend necessary legi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is power is often called the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message power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President must send three messages: State of the Union, budget message, and economic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4680000" y="893880"/>
            <a:ext cx="422892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2 The Veto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ll legislation passed by Congress is sent to the President for approv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f the President disapproves of a bill, he can veto it. That veto can only be overturned by a two-thirds vote of both houses of Cong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4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9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islative Powers Cont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560" y="835200"/>
            <a:ext cx="8537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3 The Line Item V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ne-item ve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asure would allow the President to reject specific dollar amounts in spending bills enacted by Con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1996, Congress passed the Line Item Veto Act; however, it was struck down by the Supreme Court in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06000" y="4064040"/>
            <a:ext cx="853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ctr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#4 Other Legislative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ccording to Article II, Section 3 of the Constitution, only the President can call a Congress into special s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6">
            <a:hlinkClick r:id="rId1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>
            <a:hlinkClick r:id="rId3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8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Judicial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66760" y="926640"/>
            <a:ext cx="85406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-312480">
              <a:spcBef>
                <a:spcPts val="15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The Constitution gives the President the power to </a:t>
            </a:r>
            <a:r>
              <a:rPr b="0" i="1" lang="en-US" sz="2000" spc="-1" strike="noStrike">
                <a:solidFill>
                  <a:srgbClr val="ff5050"/>
                </a:solidFill>
                <a:latin typeface="Arial"/>
              </a:rPr>
              <a:t>“...grant reprieves and pardons for offenses against the United States, except in cases of impeachment.”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—Article II, Section 2, Clau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#1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Grant reprieves: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riev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is the postponement of the execution of a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#2 Grant Pardons: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rdon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is legal forgiveness for a c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#3 Grant commutation: These power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utation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to reduce a fine or length of a sentence imposed by a cou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#4 Grant amnesty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nesty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is a blanket pardon offered to a group of law violators [Pre. Ben. Harrison, Mormons, anti-polygamy in 1893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2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3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54"/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5"/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7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4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 presidential veto of legislation can only be overturned by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wo-thirds vote in both houses of Con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wo-thirds vote in the Sen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wo-thirds vote in the Ho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ree-fifths vote in both houses of Con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Reprieves and pardons are both examples of the Presiden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ppointment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wartime pow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ordinance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clemency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7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0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266760" y="274320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resident’s Rol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2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4">
            <a:hlinkClick r:id="rId12" action="ppaction://hlinksldjump"/>
          </p:cNvPr>
          <p:cNvSpPr/>
          <p:nvPr/>
        </p:nvSpPr>
        <p:spPr>
          <a:xfrm>
            <a:off x="47498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>
            <a:hlinkClick r:id="rId14" action="ppaction://hlinksldjump"/>
          </p:cNvPr>
          <p:cNvSpPr/>
          <p:nvPr/>
        </p:nvSpPr>
        <p:spPr>
          <a:xfrm>
            <a:off x="48513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000" y="89676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of 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eans he is the ceremonial head of the government of the United States, the symbol of all the people of the 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titution vests the President with the executive power of the United States, making him or her the nation’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execu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ief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administr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irector, of the United States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hief Dipl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nation’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diplo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the main architect of American foreign policy and chief spokesperson to the rest of the wor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ore Roles of the Presiden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2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4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5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6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7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8">
            <a:hlinkClick r:id="rId12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9">
            <a:hlinkClick r:id="rId14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0000" y="1002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titution makes the President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mmander in chi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ing him or her complete control of the nation’s arm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ef Legis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legis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architect of the nation’s public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ief of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acts as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of pa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knowledged leader of the political party that controls the executive bran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hief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expected to be “the representative of all the peop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2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4">
            <a:hlinkClick r:id="rId12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>
            <a:hlinkClick r:id="rId14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fications for Presiden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7" name="Object 31"/>
          <p:cNvGraphicFramePr/>
          <p:nvPr/>
        </p:nvGraphicFramePr>
        <p:xfrm>
          <a:off x="415800" y="2063880"/>
          <a:ext cx="8142480" cy="387972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78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5800" y="2063880"/>
                    <a:ext cx="814248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32"/>
          <p:cNvSpPr/>
          <p:nvPr/>
        </p:nvSpPr>
        <p:spPr>
          <a:xfrm>
            <a:off x="228600" y="876240"/>
            <a:ext cx="871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ticle II, Section 1, Clause 5, of the Constitution says that the President mu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resident’s Ter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1951, the Constitution placed no limit on the number of terms a President might 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ly, Presidents limited the number of terms served to two. This tradition was broken by Franklin D. Roosevelt in 1940 when he ran for and won a third term in office. He then went on to be elected to a fourth term in 194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22nd Amendment placed limits on presidential terms. A President now may not be elected more than twice or only once if they became President due to succ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>
            <a:hlinkClick r:id="rId3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6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>
            <a:hlinkClick r:id="rId8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>
            <a:hlinkClick r:id="rId9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>
            <a:hlinkClick r:id="rId11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>
            <a:hlinkClick r:id="rId12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>
            <a:hlinkClick r:id="rId14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y and Benefi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960" y="1962000"/>
            <a:ext cx="4229280" cy="4321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anchor="t">
            <a:normAutofit fontScale="99000"/>
          </a:bodyPr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’s pay was first set at $25,000 a year in 1789. As of January 2001, the President is paid $400,000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has also approved an expense allowance for the President, which is currently $50,000 a year. Spent however he w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>
            <a:hlinkClick r:id="rId3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4880" y="1946160"/>
            <a:ext cx="4228920" cy="4353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ides monetary benefits, the President gets to live in the 132-room mansion that we call the White Ho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 is also granted other benefits, including a large suite of offices, a staff, the 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ir Force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many other fringe benefits, Camp David [M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14280" y="952560"/>
            <a:ext cx="8433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determines the President’s salary, and this salary cannot be changed during a presidential 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>
            <a:hlinkClick r:id="rId6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>
            <a:hlinkClick r:id="rId8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3">
            <a:hlinkClick r:id="rId9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>
            <a:hlinkClick r:id="rId11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>
            <a:hlinkClick r:id="rId12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>
            <a:hlinkClick r:id="rId14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20:30:29Z</dcterms:created>
  <dc:creator>Prentice Hall</dc:creator>
  <dc:description/>
  <dc:language>en-US</dc:language>
  <cp:lastModifiedBy>olsonl olson</cp:lastModifiedBy>
  <cp:lastPrinted>2000-02-11T15:28:41Z</cp:lastPrinted>
  <dcterms:modified xsi:type="dcterms:W3CDTF">2017-05-10T13:58:56Z</dcterms:modified>
  <cp:revision>227</cp:revision>
  <dc:subject>World History Lecture Notes</dc:subject>
  <dc:title>Economics: Principles in Action</dc:title>
</cp:coreProperties>
</file>